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B4A-DDEC-4AEE-956D-82D43B67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7E7-EA8E-43F7-B40B-002F134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079-0B0D-46B6-82B2-72313284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DBD-45BE-4AB2-A152-2324448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C3CC-8DE4-40B0-8AF6-8133DE72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6E9-8D52-48FD-B886-1803463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ACD-BADB-4663-BAFF-C28B35E7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3465-B4E3-42E2-A233-B8F7FEB0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A706-8AEF-4B6E-BF71-2509F5A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855E-6549-4C94-96A7-4C17B02A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51AF-89F0-41DF-B94A-D210C42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E7F-EAA1-47F3-9479-461AE942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72A-1211-4A75-9356-6307874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B122-A061-4B54-8FDA-916BD60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216-E0E8-4712-9083-A93DCF26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E521-CA03-4C10-A334-9EEC3DBB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E15D-6513-4E56-9A97-938BE7C7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B7F-6A02-49BB-8929-5F3BADDF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45F-8897-488C-B422-57A753D3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570-BF39-4488-A49F-C900F76F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FBF-A8A5-4C34-968D-76A170B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CCD-3140-4BCE-A8F7-D5F4EB7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3D4-21DF-402A-9895-34CD4957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85E-653A-4783-A81D-53762DC3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135C-546E-49C8-9CFC-D9F3B69E4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EB71-42B2-4D6D-91E3-C1F23DDA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42160" cy="607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e8f4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51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Some animals are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camouflaged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to blend in with their surrou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is keeps them safe as it is more difficult for other animals to see them or catch them for fo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4176720" cy="28558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4932360" y="3789360"/>
            <a:ext cx="3995640" cy="2763720"/>
            <a:chOff x="4932360" y="3789360"/>
            <a:chExt cx="3995640" cy="27637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932360" y="3789360"/>
              <a:ext cx="3995640" cy="27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076720" y="3789360"/>
              <a:ext cx="352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lizards skin is so similar to the rock colou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68360" y="3789360"/>
            <a:ext cx="3456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mic Sans MS"/>
              </a:rPr>
              <a:t>These zebra could easily be mistaken      for bushes from           a dista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32360" y="620640"/>
            <a:ext cx="3995640" cy="2879640"/>
            <a:chOff x="4932360" y="620640"/>
            <a:chExt cx="3995640" cy="287964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4932360" y="620640"/>
              <a:ext cx="39956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03640" y="620640"/>
              <a:ext cx="36720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This lion blends in well with the grassy background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88000" y="458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quatic animals have streamlined bodies to move more easliy in the wa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19640" y="404640"/>
            <a:ext cx="3416400" cy="3945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44640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105160" y="260280"/>
            <a:ext cx="378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se animals have adapted to live in the hot climate of the dese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404640"/>
            <a:ext cx="4753080" cy="3121200"/>
            <a:chOff x="468360" y="404640"/>
            <a:chExt cx="4753080" cy="31212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68360" y="404640"/>
              <a:ext cx="47530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39640" y="476280"/>
              <a:ext cx="431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mels store water in their hump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51640" y="2203560"/>
            <a:ext cx="3097080" cy="5210280"/>
            <a:chOff x="5651640" y="2203560"/>
            <a:chExt cx="3097080" cy="521028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5651640" y="2203560"/>
              <a:ext cx="3097080" cy="43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724360" y="5300640"/>
              <a:ext cx="280836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striches have long eyelashes to keep out the s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3645000"/>
            <a:ext cx="4751280" cy="3351600"/>
            <a:chOff x="468360" y="3645000"/>
            <a:chExt cx="4751280" cy="33516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468360" y="3645000"/>
              <a:ext cx="4751280" cy="29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8360" y="5805360"/>
              <a:ext cx="439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nakes glide across the hot sands and can shed their sk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se animals have adapted to be more suited to cold temperat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427640" y="333360"/>
            <a:ext cx="4249800" cy="6308640"/>
            <a:chOff x="4427640" y="333360"/>
            <a:chExt cx="4249800" cy="630864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427640" y="333360"/>
              <a:ext cx="420516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00720" y="404640"/>
              <a:ext cx="41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ayers of fat keep the seals body warm, and small ears stop heat los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4000" y="2060640"/>
            <a:ext cx="4032000" cy="2297160"/>
            <a:chOff x="324000" y="2060640"/>
            <a:chExt cx="4032000" cy="229716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395280" y="2060640"/>
              <a:ext cx="374508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24000" y="2133720"/>
              <a:ext cx="403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Polar bears are kept warm by their body f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95280" y="4508640"/>
            <a:ext cx="3743280" cy="2039760"/>
            <a:chOff x="395280" y="4508640"/>
            <a:chExt cx="3743280" cy="203976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95280" y="4508640"/>
              <a:ext cx="374328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5280" y="5516640"/>
              <a:ext cx="172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Deer have a warm layer of fu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Even plants have adapted to their habita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80000" y="476280"/>
            <a:ext cx="5040000" cy="3316320"/>
            <a:chOff x="3780000" y="476280"/>
            <a:chExt cx="5040000" cy="331632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780000" y="476280"/>
              <a:ext cx="504000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51280" y="2997360"/>
              <a:ext cx="4680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The cactus has fleshy stems that store water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80000" y="3933720"/>
            <a:ext cx="5040000" cy="2736000"/>
            <a:chOff x="3780000" y="3933720"/>
            <a:chExt cx="5040000" cy="273600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3780000" y="3933720"/>
              <a:ext cx="5040000" cy="27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780000" y="5661000"/>
              <a:ext cx="496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The water provides support for this lily as it has less developed roots to hold it in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9280" y="1700280"/>
            <a:ext cx="3529080" cy="4916520"/>
            <a:chOff x="179280" y="1700280"/>
            <a:chExt cx="3529080" cy="4916520"/>
          </a:xfrm>
        </p:grpSpPr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50920" y="1700280"/>
              <a:ext cx="324000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468360" y="4869000"/>
              <a:ext cx="273528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79280" y="3933720"/>
              <a:ext cx="352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42492"/>
                  </a:solidFill>
                  <a:latin typeface="Comic Sans MS"/>
                </a:rPr>
                <a:t>Dandelions seeds are easily disper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201600" y="0"/>
            <a:ext cx="934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42492"/>
                </a:solidFill>
                <a:latin typeface="Comic Sans MS"/>
              </a:rPr>
              <a:t>Animals and plants help each other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8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Plants and animals depend on each other for a wide variety of th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87640" y="4365720"/>
            <a:ext cx="3097080" cy="2214360"/>
            <a:chOff x="2987640" y="4365720"/>
            <a:chExt cx="3097080" cy="2214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987640" y="4365720"/>
              <a:ext cx="309708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059280" y="443700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987640" y="2205000"/>
            <a:ext cx="3097080" cy="2044080"/>
            <a:chOff x="2987640" y="2205000"/>
            <a:chExt cx="3097080" cy="204408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987640" y="2205000"/>
              <a:ext cx="309708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987640" y="378936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ests to reprodu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4000" y="2349360"/>
            <a:ext cx="2447640" cy="4105440"/>
            <a:chOff x="324000" y="2349360"/>
            <a:chExt cx="2447640" cy="410544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324000" y="2349360"/>
              <a:ext cx="2447640" cy="41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95280" y="595008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hel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72360" y="1052640"/>
            <a:ext cx="2447640" cy="3528720"/>
            <a:chOff x="6372360" y="1052640"/>
            <a:chExt cx="2447640" cy="352872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6372360" y="1052640"/>
              <a:ext cx="2447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43640" y="1125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rot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72360" y="4797360"/>
            <a:ext cx="2771640" cy="1800360"/>
            <a:chOff x="6372360" y="4797360"/>
            <a:chExt cx="2771640" cy="180036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6372360" y="4797360"/>
              <a:ext cx="216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3640" y="602136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Gas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7b9cb5"/>
                </a:solidFill>
                <a:latin typeface="Comic Sans MS"/>
              </a:rPr>
              <a:t>What is a habitat ?</a:t>
            </a:r>
            <a:endParaRPr b="0" lang="en-US" sz="66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habitat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is the place where living things l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It is more than just a home it includes the whole surrounding a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 habitat provides the animal or plant with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food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shelter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Comic Sans MS"/>
              </a:rPr>
              <a:t>People and their habitats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People can live all over the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311640" cy="2186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3330360" cy="2187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24000" y="2708280"/>
            <a:ext cx="475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05520" y="4508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We can do this because we are able to build homes for different cond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487840" y="35877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4535280" cy="33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453708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292720" y="476280"/>
            <a:ext cx="3684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3129120" cy="424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260280"/>
            <a:ext cx="5759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lso we can change our clothes to best suit the temperature around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871720" cy="388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57340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92"/>
                </a:solidFill>
                <a:latin typeface="Comic Sans MS"/>
              </a:rPr>
              <a:t>White clothes reflect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3006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92"/>
                </a:solidFill>
                <a:latin typeface="Comic Sans MS"/>
              </a:rPr>
              <a:t>Animal skin and fur act as insulators and keep heat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492360" y="1268280"/>
            <a:ext cx="2079720" cy="288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276720" y="4351320"/>
            <a:ext cx="25192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Comic Sans MS"/>
              </a:rPr>
              <a:t>Animals and plants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Most plants and animals are specially adapted to survive in a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particular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habit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y have developed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special features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to suit the demands of their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is is called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adaption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7b9cb5"/>
                </a:solidFill>
                <a:latin typeface="Comic Sans MS"/>
              </a:rPr>
              <a:t>Some examples of adaption</a:t>
            </a:r>
            <a:endParaRPr b="0" lang="en-US" sz="60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ll birds have similar characterist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But many water birds have features that are different from those birds live on l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06920" y="476280"/>
            <a:ext cx="4933800" cy="2825640"/>
            <a:chOff x="4606920" y="476280"/>
            <a:chExt cx="4933800" cy="2825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4643280" y="476280"/>
              <a:ext cx="424980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606920" y="2708280"/>
              <a:ext cx="4933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Long legs are good for wad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427640" y="3645000"/>
            <a:ext cx="4537080" cy="2930400"/>
            <a:chOff x="4427640" y="3645000"/>
            <a:chExt cx="4537080" cy="293040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4427640" y="3645000"/>
              <a:ext cx="4464000" cy="29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427640" y="602136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These wings act as flipp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95280" y="4076640"/>
            <a:ext cx="3816360" cy="2505240"/>
            <a:chOff x="395280" y="4076640"/>
            <a:chExt cx="3816360" cy="250524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395280" y="4076640"/>
              <a:ext cx="381636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5280" y="5300640"/>
              <a:ext cx="180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Webbed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feet for swimm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2:07:38Z</dcterms:created>
  <dc:creator>Sammy</dc:creator>
  <dc:description/>
  <dc:language>en-US</dc:language>
  <cp:lastModifiedBy>Sammy</cp:lastModifiedBy>
  <dcterms:modified xsi:type="dcterms:W3CDTF">2002-04-18T18:57:54Z</dcterms:modified>
  <cp:revision>4</cp:revision>
  <dc:subject/>
  <dc:title>Animals and their habitats</dc:title>
</cp:coreProperties>
</file>